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"/>
          <p:cNvSpPr txBox="1"/>
          <p:nvPr/>
        </p:nvSpPr>
        <p:spPr>
          <a:xfrm>
            <a:off x="6599160" y="16020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0388D5D-82FF-46EF-9431-7D4B29977B25}" type="slidenum"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6781680" y="6012000"/>
            <a:ext cx="2209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||__|  |  ______   ______   ______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(        | |      | |      | |      |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/-()---() ~ ()--() ~ ()--() ~ ()--()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1560" y="4495680"/>
            <a:ext cx="24271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2320" y="4251240"/>
            <a:ext cx="5653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cob Seligmann &amp; Steffen Gra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arhu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172200"/>
            <a:ext cx="19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0th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8108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cremen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ature Garbage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sing 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48760" y="22536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543880" y="31428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997760" y="366840"/>
            <a:ext cx="94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c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47984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71808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71808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424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563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2209680"/>
            <a:ext cx="457560" cy="2286360"/>
          </a:xfrm>
          <a:custGeom>
            <a:avLst/>
            <a:gdLst/>
            <a:ahLst/>
            <a:rect l="0" t="0" r="r" b="b"/>
            <a:pathLst>
              <a:path fill="none" w="1271" h="6351">
                <a:moveTo>
                  <a:pt x="1271" y="6351"/>
                </a:moveTo>
                <a:lnTo>
                  <a:pt x="1271" y="3387"/>
                </a:lnTo>
                <a:lnTo>
                  <a:pt x="0" y="3387"/>
                </a:lnTo>
                <a:lnTo>
                  <a:pt x="0" y="0"/>
                </a:lnTo>
                <a:lnTo>
                  <a:pt x="847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94240" y="201132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479840" y="201132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16765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1058"/>
                </a:moveTo>
                <a:lnTo>
                  <a:pt x="4658" y="0"/>
                </a:lnTo>
                <a:lnTo>
                  <a:pt x="0" y="0"/>
                </a:lnTo>
                <a:lnTo>
                  <a:pt x="0" y="317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718080" y="277344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479840" y="27734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2971800"/>
            <a:ext cx="1371960" cy="1676880"/>
          </a:xfrm>
          <a:custGeom>
            <a:avLst/>
            <a:gdLst/>
            <a:ahLst/>
            <a:rect l="0" t="0" r="r" b="b"/>
            <a:pathLst>
              <a:path fill="none" w="3811" h="4658">
                <a:moveTo>
                  <a:pt x="0" y="4658"/>
                </a:moveTo>
                <a:lnTo>
                  <a:pt x="2965" y="4658"/>
                </a:lnTo>
                <a:lnTo>
                  <a:pt x="2965" y="0"/>
                </a:lnTo>
                <a:lnTo>
                  <a:pt x="3811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8036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03680" y="36878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971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membered set for each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nded run-time pointer assignment check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rite barrie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tab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facilitates quick block look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828880" y="3956040"/>
            <a:ext cx="35305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never reclaims non-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reclaims all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arbage structures are collapsed into the highest-numbered train containing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 trains are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53000" y="47610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ntinuos mutations of the object graph may prevent the algorithm from collecting any garb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ing th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 may be ensured by explicitly recording an external pointer at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uti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58128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62940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625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1480" y="2981160"/>
            <a:ext cx="1067040" cy="702000"/>
          </a:xfrm>
          <a:custGeom>
            <a:avLst/>
            <a:gdLst/>
            <a:ahLst/>
            <a:rect l="0" t="0" r="r" b="b"/>
            <a:pathLst>
              <a:path w="2964" h="1950">
                <a:moveTo>
                  <a:pt x="0" y="194"/>
                </a:moveTo>
                <a:lnTo>
                  <a:pt x="0" y="1560"/>
                </a:lnTo>
                <a:lnTo>
                  <a:pt x="296" y="1755"/>
                </a:lnTo>
                <a:lnTo>
                  <a:pt x="592" y="1755"/>
                </a:lnTo>
                <a:lnTo>
                  <a:pt x="296" y="1950"/>
                </a:lnTo>
                <a:lnTo>
                  <a:pt x="889" y="1755"/>
                </a:lnTo>
                <a:lnTo>
                  <a:pt x="2668" y="1755"/>
                </a:lnTo>
                <a:lnTo>
                  <a:pt x="2964" y="1560"/>
                </a:lnTo>
                <a:lnTo>
                  <a:pt x="2964" y="194"/>
                </a:lnTo>
                <a:lnTo>
                  <a:pt x="2668" y="0"/>
                </a:lnTo>
                <a:lnTo>
                  <a:pt x="296" y="0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351320" y="2973240"/>
            <a:ext cx="96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265640" y="3125880"/>
            <a:ext cx="1136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280040" y="3278160"/>
            <a:ext cx="1108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800" y="1752480"/>
            <a:ext cx="7772400" cy="44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orst-case: O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 collections may be required to reclaim a train of length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served: 1.13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avg.), 2.00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max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350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541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06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25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973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39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2115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78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97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411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28954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1280" y="3200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831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873760" y="3832200"/>
            <a:ext cx="365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6714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30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4146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15080" y="4594320"/>
            <a:ext cx="68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jects with many references to them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t is desirable to avoid moving popula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can be done by moving cars containing popular object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gic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ather than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is not as simple as it s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System garbage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wo generations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(copy collection + mark/swe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4 Kb ca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daptive invocation frequenc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ecial treatment of (highly referenced)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23080" y="312408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494" y="1483"/>
                </a:moveTo>
                <a:lnTo>
                  <a:pt x="987" y="1483"/>
                </a:lnTo>
                <a:lnTo>
                  <a:pt x="987" y="445"/>
                </a:lnTo>
                <a:lnTo>
                  <a:pt x="1483" y="445"/>
                </a:lnTo>
                <a:lnTo>
                  <a:pt x="741" y="0"/>
                </a:lnTo>
                <a:lnTo>
                  <a:pt x="0" y="445"/>
                </a:lnTo>
                <a:lnTo>
                  <a:pt x="494" y="445"/>
                </a:lnTo>
                <a:lnTo>
                  <a:pt x="494" y="1483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IPX 4/50, 40 MHz, 3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compiler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if hyper-structure editor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rete ev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37600" y="32004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ection P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4643280" y="1693800"/>
            <a:ext cx="3938760" cy="4309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617400" y="3643200"/>
            <a:ext cx="3684600" cy="20019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1203480" y="5546880"/>
            <a:ext cx="221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19200" y="1965240"/>
            <a:ext cx="369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066680" y="2735280"/>
            <a:ext cx="7756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orag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838080" y="2529000"/>
            <a:ext cx="7756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76440" y="3556080"/>
            <a:ext cx="3747960" cy="19591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94040" cy="40971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5649840" y="4344840"/>
            <a:ext cx="1949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 50,000 references to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irtual Memory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503360" y="3094200"/>
            <a:ext cx="6087960" cy="2451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ELC 4/25, 33 MHz, 1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 &amp; Moss: “Incremental Collection of Mature Objects”, IWMM 1992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cs.umass.edu/pub/osl/papers/iwmm92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rup &amp; Seligmann: “Incremental Mature Garbage Collection”, M.Sc. Thesis, Aarhus University, 1993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daimi.aau.dk/pub/thesis/gcthesis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eligmann &amp; Grarup: “Incremental Mature Garbage Collection Using the Train Algorithm”, ECOOP 1995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aimi.aau.dk/~beta/Papers/Train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-Based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59092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59092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424" y="636"/>
                </a:lnTo>
                <a:lnTo>
                  <a:pt x="0" y="636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209680"/>
            <a:ext cx="3276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8040" y="2085840"/>
            <a:ext cx="114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4320" y="5178600"/>
            <a:ext cx="67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191120"/>
            <a:ext cx="32767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51814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191120"/>
            <a:ext cx="457560" cy="1295640"/>
          </a:xfrm>
          <a:custGeom>
            <a:avLst/>
            <a:gdLst/>
            <a:ahLst/>
            <a:rect l="0" t="0" r="r" b="b"/>
            <a:pathLst>
              <a:path fill="none" w="1271" h="3599">
                <a:moveTo>
                  <a:pt x="847" y="0"/>
                </a:moveTo>
                <a:lnTo>
                  <a:pt x="847" y="1270"/>
                </a:lnTo>
                <a:lnTo>
                  <a:pt x="1271" y="1270"/>
                </a:lnTo>
                <a:lnTo>
                  <a:pt x="1271" y="2329"/>
                </a:lnTo>
                <a:lnTo>
                  <a:pt x="0" y="2329"/>
                </a:lnTo>
                <a:lnTo>
                  <a:pt x="0" y="2964"/>
                </a:lnTo>
                <a:lnTo>
                  <a:pt x="847" y="2964"/>
                </a:lnTo>
                <a:lnTo>
                  <a:pt x="847" y="359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4197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86080" y="3427560"/>
            <a:ext cx="460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80000" y="2133720"/>
            <a:ext cx="12924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62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480000" y="3411360"/>
            <a:ext cx="17496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92000" y="1623960"/>
            <a:ext cx="7238880" cy="2558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87320" y="4800600"/>
            <a:ext cx="7213680" cy="1312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937120" y="4116240"/>
            <a:ext cx="686160" cy="530640"/>
          </a:xfrm>
          <a:custGeom>
            <a:avLst/>
            <a:gdLst/>
            <a:ahLst/>
            <a:rect l="0" t="0" r="r" b="b"/>
            <a:pathLst>
              <a:path w="1906" h="1474">
                <a:moveTo>
                  <a:pt x="1906" y="491"/>
                </a:moveTo>
                <a:lnTo>
                  <a:pt x="1906" y="981"/>
                </a:lnTo>
                <a:lnTo>
                  <a:pt x="571" y="981"/>
                </a:lnTo>
                <a:lnTo>
                  <a:pt x="571" y="1474"/>
                </a:lnTo>
                <a:lnTo>
                  <a:pt x="0" y="737"/>
                </a:lnTo>
                <a:lnTo>
                  <a:pt x="571" y="0"/>
                </a:lnTo>
                <a:lnTo>
                  <a:pt x="571" y="491"/>
                </a:lnTo>
                <a:lnTo>
                  <a:pt x="1906" y="491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88080" y="4221000"/>
            <a:ext cx="884520" cy="641880"/>
          </a:xfrm>
          <a:custGeom>
            <a:avLst/>
            <a:gdLst/>
            <a:ahLst/>
            <a:rect l="0" t="0" r="r" b="b"/>
            <a:pathLst>
              <a:path w="2457" h="1783">
                <a:moveTo>
                  <a:pt x="0" y="178"/>
                </a:moveTo>
                <a:lnTo>
                  <a:pt x="0" y="1427"/>
                </a:lnTo>
                <a:lnTo>
                  <a:pt x="245" y="1605"/>
                </a:lnTo>
                <a:lnTo>
                  <a:pt x="491" y="1605"/>
                </a:lnTo>
                <a:lnTo>
                  <a:pt x="245" y="1783"/>
                </a:lnTo>
                <a:lnTo>
                  <a:pt x="736" y="1605"/>
                </a:lnTo>
                <a:lnTo>
                  <a:pt x="2211" y="1605"/>
                </a:lnTo>
                <a:lnTo>
                  <a:pt x="2457" y="1427"/>
                </a:lnTo>
                <a:lnTo>
                  <a:pt x="2457" y="178"/>
                </a:lnTo>
                <a:lnTo>
                  <a:pt x="2211" y="0"/>
                </a:lnTo>
                <a:lnTo>
                  <a:pt x="245" y="0"/>
                </a:lnTo>
                <a:lnTo>
                  <a:pt x="0" y="1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99240" y="4245120"/>
            <a:ext cx="884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&amp;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0520" y="2719440"/>
            <a:ext cx="1793880" cy="1300320"/>
          </a:xfrm>
          <a:prstGeom prst="ellipse">
            <a:avLst/>
          </a:prstGeom>
          <a:noFill/>
          <a:ln w="38160">
            <a:solidFill>
              <a:srgbClr val="676767"/>
            </a:solidFill>
            <a:custDash>
              <a:ds d="66981" sp="66981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ide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on-disruptiv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 of the oldest generation at 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lits old generation into fixed-sized block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, organized into disjoint set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cesses one block at a time, in lexicograph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ognizes and reclaims even very large cyclic garba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 Generation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22400" y="1828800"/>
            <a:ext cx="3505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052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6388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73280" y="228276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8296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08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08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91000" y="1981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4184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3692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100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184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296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296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666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608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3692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100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184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69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1000" y="213516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184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64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10544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2272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7356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2272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848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3076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81600" y="1981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848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3076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16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7356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27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7356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6668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848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3076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8160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076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81600" y="21351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652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4520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428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51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6740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51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740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6428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824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7232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280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8240" y="28209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723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2280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6428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512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740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6428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512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740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824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723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2280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824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232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2280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22400" y="3124080"/>
            <a:ext cx="2362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052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6388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673280" y="357840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296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32767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608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343044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8608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296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3692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91000" y="32767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1840" y="32767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3692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9100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4184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296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8608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8296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2000" y="39625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86080" y="39625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3692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9100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4184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692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91000" y="343044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41840" y="34304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464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10544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272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7356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7356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764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2272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848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30760" y="32767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1600" y="32767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848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3076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16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2272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356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2272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73560" y="39625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39625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848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3076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81600" y="39625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848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0760" y="343044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81600" y="34304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2400" y="4419720"/>
            <a:ext cx="4648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052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96388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73280" y="487368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296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3200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8608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8608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296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369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91000" y="45720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4184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3692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9100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184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8296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8608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52578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8608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3692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9100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4184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369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4726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464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0544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2272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7356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764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764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2272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848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3076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81600" y="45720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848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076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816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227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356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764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227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27640" y="52578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076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8160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848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3076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81600" y="4726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6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245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64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5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7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7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64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8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2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22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18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72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22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64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5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7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64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15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7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8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22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8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72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2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29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88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7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8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10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8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10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07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61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5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65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1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15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5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7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58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10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7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8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0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61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15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5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61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5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5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Collection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f there are no external references into the train being collected then reclaim all its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source 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end of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laim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041560" y="201132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0415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80368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2193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812960" y="11732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2590920"/>
            <a:ext cx="2591280" cy="228960"/>
          </a:xfrm>
          <a:custGeom>
            <a:avLst/>
            <a:gdLst/>
            <a:ahLst/>
            <a:rect l="0" t="0" r="r" b="b"/>
            <a:pathLst>
              <a:path fill="none" w="7198" h="636">
                <a:moveTo>
                  <a:pt x="7198" y="636"/>
                </a:moveTo>
                <a:lnTo>
                  <a:pt x="7198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971800"/>
            <a:ext cx="228960" cy="914760"/>
          </a:xfrm>
          <a:custGeom>
            <a:avLst/>
            <a:gdLst/>
            <a:ahLst/>
            <a:rect l="0" t="0" r="r" b="b"/>
            <a:pathLst>
              <a:path fill="none" w="636" h="2541">
                <a:moveTo>
                  <a:pt x="0" y="2541"/>
                </a:moveTo>
                <a:lnTo>
                  <a:pt x="636" y="2541"/>
                </a:lnTo>
                <a:lnTo>
                  <a:pt x="63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5636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62320" y="2209680"/>
            <a:ext cx="1752840" cy="2438640"/>
          </a:xfrm>
          <a:custGeom>
            <a:avLst/>
            <a:gdLst/>
            <a:ahLst/>
            <a:rect l="0" t="0" r="r" b="b"/>
            <a:pathLst>
              <a:path fill="none" w="4869" h="6774">
                <a:moveTo>
                  <a:pt x="0" y="6774"/>
                </a:moveTo>
                <a:lnTo>
                  <a:pt x="2964" y="6774"/>
                </a:lnTo>
                <a:lnTo>
                  <a:pt x="2964" y="0"/>
                </a:lnTo>
                <a:lnTo>
                  <a:pt x="4869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ob Seligmann</dc:creator>
  <dc:description>ECOOP'95 Presentation</dc:description>
  <dc:language>en-US</dc:language>
  <cp:lastModifiedBy>Preben Mogensen</cp:lastModifiedBy>
  <cp:revision>0</cp:revision>
  <dc:subject/>
  <dc:title>Incremental Mature Garbage Collection Using the Train Algorithm</dc:title>
</cp:coreProperties>
</file>