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76320"/>
            <a:ext cx="8839080" cy="6723360"/>
            <a:chOff x="152280" y="76320"/>
            <a:chExt cx="8839080" cy="6723360"/>
          </a:xfrm>
        </p:grpSpPr>
        <p:sp>
          <p:nvSpPr>
            <p:cNvPr id="1" name=""/>
            <p:cNvSpPr/>
            <p:nvPr/>
          </p:nvSpPr>
          <p:spPr>
            <a:xfrm>
              <a:off x="152280" y="228600"/>
              <a:ext cx="8839080" cy="6324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custDash>
                <a:ds d="49296" sp="49296"/>
              </a:custDash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001960" y="76320"/>
              <a:ext cx="5313600" cy="6723360"/>
              <a:chOff x="2001960" y="76320"/>
              <a:chExt cx="5313600" cy="67233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400800" y="76320"/>
                <a:ext cx="914760" cy="762120"/>
                <a:chOff x="6400800" y="76320"/>
                <a:chExt cx="914760" cy="7621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32560" y="15228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cecece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400800" y="763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0"/>
                      </a:moveTo>
                      <a:lnTo>
                        <a:pt x="2175" y="0"/>
                      </a:lnTo>
                      <a:lnTo>
                        <a:pt x="1087" y="19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01960" y="6019920"/>
                <a:ext cx="1005120" cy="779760"/>
                <a:chOff x="2001960" y="6019920"/>
                <a:chExt cx="1005120" cy="7797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224080" y="61135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12600">
                  <a:solidFill>
                    <a:srgbClr val="cecece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01960" y="6019920"/>
                  <a:ext cx="783000" cy="686160"/>
                </a:xfrm>
                <a:custGeom>
                  <a:avLst/>
                  <a:gdLst/>
                  <a:ahLst/>
                  <a:rect l="0" t="0" r="r" b="b"/>
                  <a:pathLst>
                    <a:path w="2175" h="1906">
                      <a:moveTo>
                        <a:pt x="0" y="1906"/>
                      </a:moveTo>
                      <a:lnTo>
                        <a:pt x="2175" y="1906"/>
                      </a:lnTo>
                      <a:lnTo>
                        <a:pt x="1087" y="0"/>
                      </a:lnTo>
                      <a:lnTo>
                        <a:pt x="0" y="1906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" name=""/>
          <p:cNvSpPr txBox="1"/>
          <p:nvPr/>
        </p:nvSpPr>
        <p:spPr>
          <a:xfrm>
            <a:off x="6599160" y="16020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597BDA24-DAD4-4133-9B1C-90C780F3C2DF}" type="slidenum"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6781680" y="6012000"/>
            <a:ext cx="2209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____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_||__|  |  ______   ______   ______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(        | |      | |      | |      |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Courier New"/>
              </a:rPr>
              <a:t>/-()---() ~ ()--() ~ ()--() ~ ()--()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81560" y="4495680"/>
            <a:ext cx="242712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22320" y="4251240"/>
            <a:ext cx="56530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Jacob Seligmann &amp; Steffen Grar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arhus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6172200"/>
            <a:ext cx="198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gust 10th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981080"/>
            <a:ext cx="77724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cremen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ature Garbage Coll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Using the Train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48760" y="225360"/>
            <a:ext cx="423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400" spc="-1" strike="noStrike">
                <a:solidFill>
                  <a:srgbClr val="b760f9"/>
                </a:solidFill>
                <a:latin typeface="Arial"/>
                <a:ea typeface="Arial"/>
              </a:rPr>
              <a:t>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543880" y="314280"/>
            <a:ext cx="423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400" spc="-1" strike="noStrike">
                <a:solidFill>
                  <a:srgbClr val="b760f9"/>
                </a:solidFill>
                <a:latin typeface="Arial"/>
                <a:ea typeface="Arial"/>
              </a:rPr>
              <a:t>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997760" y="366840"/>
            <a:ext cx="94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ec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47984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3392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71808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71808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9424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722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5636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2209680"/>
            <a:ext cx="457560" cy="2286360"/>
          </a:xfrm>
          <a:custGeom>
            <a:avLst/>
            <a:gdLst/>
            <a:ahLst/>
            <a:rect l="0" t="0" r="r" b="b"/>
            <a:pathLst>
              <a:path fill="none" w="1271" h="6351">
                <a:moveTo>
                  <a:pt x="1271" y="6351"/>
                </a:moveTo>
                <a:lnTo>
                  <a:pt x="1271" y="3387"/>
                </a:lnTo>
                <a:lnTo>
                  <a:pt x="0" y="3387"/>
                </a:lnTo>
                <a:lnTo>
                  <a:pt x="0" y="0"/>
                </a:lnTo>
                <a:lnTo>
                  <a:pt x="847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86200" y="2590920"/>
            <a:ext cx="2438640" cy="228960"/>
          </a:xfrm>
          <a:custGeom>
            <a:avLst/>
            <a:gdLst/>
            <a:ahLst/>
            <a:rect l="0" t="0" r="r" b="b"/>
            <a:pathLst>
              <a:path fill="none" w="6774" h="636">
                <a:moveTo>
                  <a:pt x="6774" y="636"/>
                </a:moveTo>
                <a:lnTo>
                  <a:pt x="6774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648320" y="2362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94240" y="201132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956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479840" y="444960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956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479840" y="201132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03848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220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1676520"/>
            <a:ext cx="1676880" cy="1143360"/>
          </a:xfrm>
          <a:custGeom>
            <a:avLst/>
            <a:gdLst/>
            <a:ahLst/>
            <a:rect l="0" t="0" r="r" b="b"/>
            <a:pathLst>
              <a:path fill="none" w="4658" h="3176">
                <a:moveTo>
                  <a:pt x="4658" y="1058"/>
                </a:moveTo>
                <a:lnTo>
                  <a:pt x="4658" y="0"/>
                </a:lnTo>
                <a:lnTo>
                  <a:pt x="0" y="0"/>
                </a:lnTo>
                <a:lnTo>
                  <a:pt x="0" y="317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362320" y="4648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339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7180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956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479840" y="444960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718080" y="277344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479840" y="277344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362320" y="2971800"/>
            <a:ext cx="1371960" cy="1676880"/>
          </a:xfrm>
          <a:custGeom>
            <a:avLst/>
            <a:gdLst/>
            <a:ahLst/>
            <a:rect l="0" t="0" r="r" b="b"/>
            <a:pathLst>
              <a:path fill="none" w="3811" h="4658">
                <a:moveTo>
                  <a:pt x="0" y="4658"/>
                </a:moveTo>
                <a:lnTo>
                  <a:pt x="2965" y="4658"/>
                </a:lnTo>
                <a:lnTo>
                  <a:pt x="2965" y="0"/>
                </a:lnTo>
                <a:lnTo>
                  <a:pt x="3811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195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803680" y="444960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2803680" y="368784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36232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971800" y="4038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echnic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membered set for each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tended run-time pointer assignment check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write barrier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tab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facilitates quick block look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2828880" y="3956040"/>
            <a:ext cx="35305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rrect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 i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af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i.e. it never reclaims non-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 i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, i.e. it reclaims all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arbage structures are collapsed into the highest-numbered train containing a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ll trains are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553000" y="4761000"/>
            <a:ext cx="457560" cy="457560"/>
          </a:xfrm>
          <a:custGeom>
            <a:avLst/>
            <a:gdLst/>
            <a:ahLst/>
            <a:rect l="0" t="0" r="r" b="b"/>
            <a:pathLst>
              <a:path w="1271" h="1271">
                <a:moveTo>
                  <a:pt x="1271" y="422"/>
                </a:moveTo>
                <a:lnTo>
                  <a:pt x="1271" y="846"/>
                </a:lnTo>
                <a:lnTo>
                  <a:pt x="380" y="846"/>
                </a:lnTo>
                <a:lnTo>
                  <a:pt x="380" y="1271"/>
                </a:lnTo>
                <a:lnTo>
                  <a:pt x="0" y="635"/>
                </a:lnTo>
                <a:lnTo>
                  <a:pt x="380" y="0"/>
                </a:lnTo>
                <a:lnTo>
                  <a:pt x="380" y="422"/>
                </a:lnTo>
                <a:lnTo>
                  <a:pt x="1271" y="422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n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ntinuos mutations of the object graph may prevent the algorithm from collecting any garba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462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668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810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9652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765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524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7366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1337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098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7940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5053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50133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242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812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5654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9625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8421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5530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16292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0773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80614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7724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872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783288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822960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738520" y="4037040"/>
            <a:ext cx="668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6728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780160" y="4060800"/>
            <a:ext cx="61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04812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812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09588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9588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rrecting the Err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gress may be ensured by explicitly recording an external pointer at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util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621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7462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572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6668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9810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9652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765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7366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1337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80988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79404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1480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0133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7242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8128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56544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684216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55308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62920" y="4648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07732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8061480" y="444960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772400" y="419112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848720" y="53341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7832880" y="52880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822960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38520" y="4037040"/>
            <a:ext cx="668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867280" y="434340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0" y="296"/>
                </a:moveTo>
                <a:lnTo>
                  <a:pt x="0" y="1187"/>
                </a:lnTo>
                <a:lnTo>
                  <a:pt x="1038" y="1187"/>
                </a:lnTo>
                <a:lnTo>
                  <a:pt x="1038" y="1483"/>
                </a:lnTo>
                <a:lnTo>
                  <a:pt x="1483" y="741"/>
                </a:lnTo>
                <a:lnTo>
                  <a:pt x="1038" y="0"/>
                </a:lnTo>
                <a:lnTo>
                  <a:pt x="1038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780160" y="4060800"/>
            <a:ext cx="61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581280" y="3657600"/>
            <a:ext cx="762120" cy="347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6629400" y="3657600"/>
            <a:ext cx="762120" cy="3477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9625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01028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81480" y="2981160"/>
            <a:ext cx="1067040" cy="702000"/>
          </a:xfrm>
          <a:custGeom>
            <a:avLst/>
            <a:gdLst/>
            <a:ahLst/>
            <a:rect l="0" t="0" r="r" b="b"/>
            <a:pathLst>
              <a:path w="2964" h="1950">
                <a:moveTo>
                  <a:pt x="0" y="194"/>
                </a:moveTo>
                <a:lnTo>
                  <a:pt x="0" y="1560"/>
                </a:lnTo>
                <a:lnTo>
                  <a:pt x="296" y="1755"/>
                </a:lnTo>
                <a:lnTo>
                  <a:pt x="592" y="1755"/>
                </a:lnTo>
                <a:lnTo>
                  <a:pt x="296" y="1950"/>
                </a:lnTo>
                <a:lnTo>
                  <a:pt x="889" y="1755"/>
                </a:lnTo>
                <a:lnTo>
                  <a:pt x="2668" y="1755"/>
                </a:lnTo>
                <a:lnTo>
                  <a:pt x="2964" y="1560"/>
                </a:lnTo>
                <a:lnTo>
                  <a:pt x="2964" y="194"/>
                </a:lnTo>
                <a:lnTo>
                  <a:pt x="2668" y="0"/>
                </a:lnTo>
                <a:lnTo>
                  <a:pt x="296" y="0"/>
                </a:lnTo>
                <a:lnTo>
                  <a:pt x="0" y="1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351320" y="2973240"/>
            <a:ext cx="966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265640" y="3125880"/>
            <a:ext cx="1136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uaran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280040" y="3278160"/>
            <a:ext cx="1108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96252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812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04812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95880" y="3581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095880" y="4952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685800" y="1752480"/>
            <a:ext cx="7772400" cy="44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Worst-case: O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okman Old Style"/>
                <a:ea typeface="Bookman Old Styl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 collections may be required to reclaim a train of length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bserved: 1.13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avg.), 2.00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(max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5350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541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066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257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2782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973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18399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2115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478640" y="38862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097760" y="3505320"/>
            <a:ext cx="10666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64119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467480" y="28954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631280" y="3200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583160" y="4038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873760" y="3832200"/>
            <a:ext cx="365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16714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430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414680" y="459432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15080" y="4594320"/>
            <a:ext cx="68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</a:t>
            </a:r>
            <a:r>
              <a:rPr b="0" i="1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bjects with many references to them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t is desirable to avoid moving popula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is can be done by moving cars containing popular object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logic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ather than phy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is is not as simple as it soun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un-tim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jølner BETA System garbage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wo generations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(copy collection + mark/swe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echnical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64 Kb ca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daptive invocation frequency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pecial treatment of (highly referenced) basic environm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23080" y="312408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494" y="1483"/>
                </a:moveTo>
                <a:lnTo>
                  <a:pt x="987" y="1483"/>
                </a:lnTo>
                <a:lnTo>
                  <a:pt x="987" y="445"/>
                </a:lnTo>
                <a:lnTo>
                  <a:pt x="1483" y="445"/>
                </a:lnTo>
                <a:lnTo>
                  <a:pt x="741" y="0"/>
                </a:lnTo>
                <a:lnTo>
                  <a:pt x="0" y="445"/>
                </a:lnTo>
                <a:lnTo>
                  <a:pt x="494" y="445"/>
                </a:lnTo>
                <a:lnTo>
                  <a:pt x="494" y="1483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UN SPARC IPX 4/50, 40 MHz, 32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Mjølner BETA compiler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if hyper-structure editor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crete event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437600" y="3200400"/>
            <a:ext cx="457560" cy="457560"/>
          </a:xfrm>
          <a:custGeom>
            <a:avLst/>
            <a:gdLst/>
            <a:ahLst/>
            <a:rect l="0" t="0" r="r" b="b"/>
            <a:pathLst>
              <a:path w="1271" h="1271">
                <a:moveTo>
                  <a:pt x="1271" y="422"/>
                </a:moveTo>
                <a:lnTo>
                  <a:pt x="1271" y="846"/>
                </a:lnTo>
                <a:lnTo>
                  <a:pt x="380" y="846"/>
                </a:lnTo>
                <a:lnTo>
                  <a:pt x="380" y="1271"/>
                </a:lnTo>
                <a:lnTo>
                  <a:pt x="0" y="635"/>
                </a:lnTo>
                <a:lnTo>
                  <a:pt x="380" y="0"/>
                </a:lnTo>
                <a:lnTo>
                  <a:pt x="380" y="422"/>
                </a:lnTo>
                <a:lnTo>
                  <a:pt x="1271" y="422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ollection Pau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1"/>
          <a:stretch/>
        </p:blipFill>
        <p:spPr>
          <a:xfrm>
            <a:off x="4643280" y="1693800"/>
            <a:ext cx="3938760" cy="43099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617400" y="3643200"/>
            <a:ext cx="3684600" cy="200196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1203480" y="5546880"/>
            <a:ext cx="221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3"/>
          <a:stretch/>
        </p:blipFill>
        <p:spPr>
          <a:xfrm>
            <a:off x="619200" y="1965240"/>
            <a:ext cx="36939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un-time Over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1066680" y="2735280"/>
            <a:ext cx="77565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torage Over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838080" y="2529000"/>
            <a:ext cx="77565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opular Object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676440" y="3556080"/>
            <a:ext cx="3747960" cy="19591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794040" cy="409716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 txBox="1"/>
          <p:nvPr/>
        </p:nvSpPr>
        <p:spPr>
          <a:xfrm>
            <a:off x="5649840" y="4344840"/>
            <a:ext cx="1949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8580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ver 50,000 references to basic environm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Virtual Memory Behav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1503360" y="3094200"/>
            <a:ext cx="6087960" cy="245124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enchmark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50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UN SPARC ELC 4/25, 33 MHz, 12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Hudson &amp; Moss: “Incremental Collection of Mature Objects”, IWMM 1992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cs.umass.edu/pub/osl/papers/iwmm92.ps.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rarup &amp; Seligmann: “Incremental Mature Garbage Collection”, M.Sc. Thesis, Aarhus University, 1993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daimi.aau.dk/pub/thesis/gcthesis.ps.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eligmann &amp; Grarup: “Incremental Mature Garbage Collection Using the Train Algorithm”, ECOOP 1995</a:t>
            </a:r>
            <a:br>
              <a:rPr sz="1800"/>
            </a:b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daimi.aau.dk/~beta/Papers/Train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eneration-Based G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2590920"/>
            <a:ext cx="3276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8195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6668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8195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26668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259092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424" y="636"/>
                </a:lnTo>
                <a:lnTo>
                  <a:pt x="0" y="636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209680"/>
            <a:ext cx="32767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2286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228600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08040" y="2085840"/>
            <a:ext cx="1147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84320" y="5178600"/>
            <a:ext cx="671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191120"/>
            <a:ext cx="32767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47242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8769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51814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7242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53341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50292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57200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7242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53341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48769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191120"/>
            <a:ext cx="457560" cy="1295640"/>
          </a:xfrm>
          <a:custGeom>
            <a:avLst/>
            <a:gdLst/>
            <a:ahLst/>
            <a:rect l="0" t="0" r="r" b="b"/>
            <a:pathLst>
              <a:path fill="none" w="1271" h="3599">
                <a:moveTo>
                  <a:pt x="847" y="0"/>
                </a:moveTo>
                <a:lnTo>
                  <a:pt x="847" y="1270"/>
                </a:lnTo>
                <a:lnTo>
                  <a:pt x="1271" y="1270"/>
                </a:lnTo>
                <a:lnTo>
                  <a:pt x="1271" y="2329"/>
                </a:lnTo>
                <a:lnTo>
                  <a:pt x="0" y="2329"/>
                </a:lnTo>
                <a:lnTo>
                  <a:pt x="0" y="2964"/>
                </a:lnTo>
                <a:lnTo>
                  <a:pt x="847" y="2964"/>
                </a:lnTo>
                <a:lnTo>
                  <a:pt x="847" y="3599"/>
                </a:lnTo>
              </a:path>
            </a:pathLst>
          </a:cu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441972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441972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4267080"/>
            <a:ext cx="76320" cy="763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42670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4267080"/>
            <a:ext cx="7632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186080" y="3427560"/>
            <a:ext cx="460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480000" y="2133720"/>
            <a:ext cx="12924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2620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480000" y="3411360"/>
            <a:ext cx="17496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Generation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92000" y="1623960"/>
            <a:ext cx="7238880" cy="2558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87320" y="4800600"/>
            <a:ext cx="7213680" cy="1312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937120" y="4116240"/>
            <a:ext cx="686160" cy="530640"/>
          </a:xfrm>
          <a:custGeom>
            <a:avLst/>
            <a:gdLst/>
            <a:ahLst/>
            <a:rect l="0" t="0" r="r" b="b"/>
            <a:pathLst>
              <a:path w="1906" h="1474">
                <a:moveTo>
                  <a:pt x="1906" y="491"/>
                </a:moveTo>
                <a:lnTo>
                  <a:pt x="1906" y="981"/>
                </a:lnTo>
                <a:lnTo>
                  <a:pt x="571" y="981"/>
                </a:lnTo>
                <a:lnTo>
                  <a:pt x="571" y="1474"/>
                </a:lnTo>
                <a:lnTo>
                  <a:pt x="0" y="737"/>
                </a:lnTo>
                <a:lnTo>
                  <a:pt x="571" y="0"/>
                </a:lnTo>
                <a:lnTo>
                  <a:pt x="571" y="491"/>
                </a:lnTo>
                <a:lnTo>
                  <a:pt x="1906" y="491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88080" y="4221000"/>
            <a:ext cx="884520" cy="641880"/>
          </a:xfrm>
          <a:custGeom>
            <a:avLst/>
            <a:gdLst/>
            <a:ahLst/>
            <a:rect l="0" t="0" r="r" b="b"/>
            <a:pathLst>
              <a:path w="2457" h="1783">
                <a:moveTo>
                  <a:pt x="0" y="178"/>
                </a:moveTo>
                <a:lnTo>
                  <a:pt x="0" y="1427"/>
                </a:lnTo>
                <a:lnTo>
                  <a:pt x="245" y="1605"/>
                </a:lnTo>
                <a:lnTo>
                  <a:pt x="491" y="1605"/>
                </a:lnTo>
                <a:lnTo>
                  <a:pt x="245" y="1783"/>
                </a:lnTo>
                <a:lnTo>
                  <a:pt x="736" y="1605"/>
                </a:lnTo>
                <a:lnTo>
                  <a:pt x="2211" y="1605"/>
                </a:lnTo>
                <a:lnTo>
                  <a:pt x="2457" y="1427"/>
                </a:lnTo>
                <a:lnTo>
                  <a:pt x="2457" y="178"/>
                </a:lnTo>
                <a:lnTo>
                  <a:pt x="2211" y="0"/>
                </a:lnTo>
                <a:lnTo>
                  <a:pt x="245" y="0"/>
                </a:lnTo>
                <a:lnTo>
                  <a:pt x="0" y="17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599240" y="4245120"/>
            <a:ext cx="884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Hud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&amp; M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40520" y="2719440"/>
            <a:ext cx="1793880" cy="1300320"/>
          </a:xfrm>
          <a:prstGeom prst="ellipse">
            <a:avLst/>
          </a:prstGeom>
          <a:noFill/>
          <a:ln w="38160">
            <a:solidFill>
              <a:srgbClr val="676767"/>
            </a:solidFill>
            <a:custDash>
              <a:ds d="66981" sp="66981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he Train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vides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non-disruptiv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collection of the oldest generation at a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plits old generation into fixed-sized blocks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, organized into disjoint sets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Processes one block at a time, in lexicographic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ognizes and reclaims even very large cyclic garbag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Old Generation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22400" y="1828800"/>
            <a:ext cx="3505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0520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96388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73280" y="228276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8296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1981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8608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2000" y="21351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8608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296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3692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91000" y="19810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41840" y="1981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36920" y="28209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9100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4184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8296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8209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8608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8296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2000" y="2666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86080" y="26668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3692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9100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4184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692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91000" y="213516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41840" y="21351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4640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10544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2272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7356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2764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7356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2272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848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30760" y="1981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81600" y="1981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8480" y="28209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3076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81600" y="28209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7356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2764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2272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73560" y="2666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27640" y="26668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848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3076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81600" y="2666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848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30760" y="213516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81600" y="213516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6520" y="190656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245200" y="228276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64280" y="1981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15120" y="1981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67400" y="1981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15120" y="213516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7400" y="21351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64280" y="21351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8240" y="1981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72320" y="1981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2800" y="1981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8240" y="28209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7232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2280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64280" y="282096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5120" y="28209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7400" y="282096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64280" y="2666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15120" y="2666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67400" y="26668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8240" y="2666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72320" y="2666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22800" y="2666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8240" y="213516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2320" y="213516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22800" y="213516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22400" y="3124080"/>
            <a:ext cx="2362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05200" y="320184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963880" y="357840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673280" y="357840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82960" y="32767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327672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86080" y="32767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32000" y="343044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86080" y="34304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82960" y="34304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3692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91000" y="327672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741840" y="32767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36920" y="41162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9100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41840" y="41162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8296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32000" y="41162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8608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82960" y="39625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32000" y="396252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86080" y="396252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3692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91000" y="39625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4184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3692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91000" y="343044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41840" y="34304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46400" y="320184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105440" y="357840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2720" y="32767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7356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27640" y="327672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7356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27640" y="34304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22720" y="34304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8480" y="32767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30760" y="327672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1600" y="327672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8480" y="41162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3076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81600" y="41162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22720" y="411624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73560" y="411624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27640" y="411624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22720" y="39625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73560" y="396252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27640" y="396252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8480" y="396252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30760" y="396252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881600" y="396252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8480" y="343044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30760" y="343044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81600" y="343044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22400" y="4419720"/>
            <a:ext cx="4648320" cy="12193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0520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96388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673280" y="4873680"/>
            <a:ext cx="99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rai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8296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3200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8608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3200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8608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8296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369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91000" y="457200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4184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36920" y="5411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9100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4184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8296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2000" y="5411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8608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296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52578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8608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3692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9100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4184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369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472608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4184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4640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10544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2272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7356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2764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7356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42764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2272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848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3076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81600" y="45720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8480" y="54118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73076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81600" y="54118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227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356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2764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227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7356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427640" y="5257800"/>
            <a:ext cx="7308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3076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8160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848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3076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81600" y="472608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652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24520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6428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151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740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151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6740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6428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1824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7232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2280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18240" y="5411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8723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2280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26428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1512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56740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26428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1512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6740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71824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723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2280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1824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7232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2280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329520" y="4497480"/>
            <a:ext cx="1063800" cy="106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388200" y="487368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3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07280" y="45720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58120" y="45720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10400" y="45720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58120" y="472608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10400" y="47260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407280" y="47260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61240" y="4572000"/>
            <a:ext cx="7776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15320" y="45720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165800" y="45720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61240" y="54118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1532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6580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07280" y="541188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58120" y="54118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10400" y="541188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07280" y="5257800"/>
            <a:ext cx="7308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58120" y="525780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10400" y="525780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61240" y="525780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015320" y="5257800"/>
            <a:ext cx="745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65800" y="5257800"/>
            <a:ext cx="7632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61240" y="4726080"/>
            <a:ext cx="77760" cy="7452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15320" y="4726080"/>
            <a:ext cx="745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165800" y="4726080"/>
            <a:ext cx="76320" cy="74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ar Collection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f there are no external references into the train being collected then reclaim all its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ursively evacuate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tern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eferenced objects to source 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ursively evacuate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internally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 referenced objects to end of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20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eclaim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041560" y="201132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04156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80368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098960" y="201132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39424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39424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20968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2209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419720" y="2209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28800" y="121932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812960" y="117324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29718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71800" y="2590920"/>
            <a:ext cx="2591280" cy="228960"/>
          </a:xfrm>
          <a:custGeom>
            <a:avLst/>
            <a:gdLst/>
            <a:ahLst/>
            <a:rect l="0" t="0" r="r" b="b"/>
            <a:pathLst>
              <a:path fill="none" w="7198" h="636">
                <a:moveTo>
                  <a:pt x="7198" y="636"/>
                </a:moveTo>
                <a:lnTo>
                  <a:pt x="7198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2320" y="2971800"/>
            <a:ext cx="228960" cy="914760"/>
          </a:xfrm>
          <a:custGeom>
            <a:avLst/>
            <a:gdLst/>
            <a:ahLst/>
            <a:rect l="0" t="0" r="r" b="b"/>
            <a:pathLst>
              <a:path fill="none" w="636" h="2541">
                <a:moveTo>
                  <a:pt x="0" y="2541"/>
                </a:moveTo>
                <a:lnTo>
                  <a:pt x="636" y="2541"/>
                </a:lnTo>
                <a:lnTo>
                  <a:pt x="63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xample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7400" y="449568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041560" y="444960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1952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80368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17220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156360" y="2773440"/>
            <a:ext cx="37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0512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098960" y="2011320"/>
            <a:ext cx="35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718080" y="2773440"/>
            <a:ext cx="38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956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479840" y="27734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205740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394240" y="2011320"/>
            <a:ext cx="36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8195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94240" y="2773440"/>
            <a:ext cx="35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257800" y="190512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3733920"/>
            <a:ext cx="3049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041560" y="3687840"/>
            <a:ext cx="366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905120" y="3581280"/>
            <a:ext cx="13716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6232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19720" y="2209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2971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828800" y="5257800"/>
            <a:ext cx="762120" cy="3049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812960" y="5211720"/>
            <a:ext cx="81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Bookman Old Style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2096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362320" y="2209680"/>
            <a:ext cx="1752840" cy="2438640"/>
          </a:xfrm>
          <a:custGeom>
            <a:avLst/>
            <a:gdLst/>
            <a:ahLst/>
            <a:rect l="0" t="0" r="r" b="b"/>
            <a:pathLst>
              <a:path fill="none" w="4869" h="6774">
                <a:moveTo>
                  <a:pt x="0" y="6774"/>
                </a:moveTo>
                <a:lnTo>
                  <a:pt x="2964" y="6774"/>
                </a:lnTo>
                <a:lnTo>
                  <a:pt x="2964" y="0"/>
                </a:lnTo>
                <a:lnTo>
                  <a:pt x="4869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86200" y="2590920"/>
            <a:ext cx="2438640" cy="228960"/>
          </a:xfrm>
          <a:custGeom>
            <a:avLst/>
            <a:gdLst/>
            <a:ahLst/>
            <a:rect l="0" t="0" r="r" b="b"/>
            <a:pathLst>
              <a:path fill="none" w="6774" h="636">
                <a:moveTo>
                  <a:pt x="6774" y="636"/>
                </a:moveTo>
                <a:lnTo>
                  <a:pt x="6774" y="0"/>
                </a:lnTo>
                <a:lnTo>
                  <a:pt x="0" y="0"/>
                </a:lnTo>
                <a:lnTo>
                  <a:pt x="0" y="63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09680" y="34290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0"/>
                </a:ln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cob Seligmann</dc:creator>
  <dc:description>ECOOP'95 Presentation</dc:description>
  <dc:language>en-US</dc:language>
  <cp:lastModifiedBy>Preben Mogensen</cp:lastModifiedBy>
  <cp:revision>0</cp:revision>
  <dc:subject/>
  <dc:title>Incremental Mature Garbage Collection Using the Train Algorithm</dc:title>
</cp:coreProperties>
</file>